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chopper1.wav" ContentType="audio/x-wav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explode.wav" ContentType="audio/x-wav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CTAPS.WAV" ContentType="audio/x-wav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142E7A-593C-47C2-9065-FE85FC6C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’s “secret” plan never mater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nvolved u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with Honor”  We’ll win befoe we with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Cambodia invaded in 1970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os invaded in 1971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on of capital to the war indirectly caused economic recession: 11% inflation and 12% unemploy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ar Powers 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1973, passed over Nixon's veto, requires the Preside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Congress within 48 hours of his use of military force in a foreign country or enlarging an ongoing confli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must secure Congressional approval if he intends to keep these troops overseas for more than 60 days.  If he doesn't, he must withdraw th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can pass a joint resolution to withdraw the troops before the 60 day deadline.  (Each President since has denied its validity, though the issue has never been tes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elcome home (shamed and ashamed), high unemployment, alcohol &amp; drug abuse; poor care of disabled vets: underfunded vets hospitals, Post-Traumatic Stress Disorder; Agent Orange health problems, birth defects in vets’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U.S.-loyal South Vietnamese attempt to flee for fear of execution by the No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391520" y="108000"/>
            <a:ext cx="1741320" cy="1176120"/>
            <a:chOff x="7391520" y="108000"/>
            <a:chExt cx="1741320" cy="1176120"/>
          </a:xfrm>
        </p:grpSpPr>
        <p:sp>
          <p:nvSpPr>
            <p:cNvPr id="5" name="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TAP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opper1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Nixon o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ixon’s 1968 Campaign promised an end to the war: </a:t>
            </a:r>
            <a:r>
              <a:rPr b="1" i="1" lang="en-US" sz="26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ealed to the great </a:t>
            </a:r>
            <a:br>
              <a:rPr sz="2600"/>
            </a:b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“Silent Major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Vietnamization –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urn the war over to the Vietna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476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Comic Sans MS"/>
              </a:rPr>
              <a:t>Win their hearts and mind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pansion of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lic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“Secret War”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mbo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gent Orang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chemical defoliant)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2438280"/>
            <a:ext cx="136368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220968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Cost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,000,000 Vietnamese kill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8,000 Americans killed; 300,000 wound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-funding of Great Society programs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$150,000,000,000 in U.S. spending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.S. morale, self-confidence, trust of government, decimat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257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Impac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2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Amendme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 18-year-olds vote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ixon abolished the draft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ll-volunteer army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War Powers Act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ar-SA" sz="4000" spc="-1" strike="noStrike">
                <a:solidFill>
                  <a:srgbClr val="0033cc"/>
                </a:solidFill>
                <a:latin typeface="Comic Sans MS"/>
                <a:cs typeface="Arial"/>
              </a:rPr>
              <a:t>٭</a:t>
            </a:r>
            <a:endParaRPr b="0" lang="en-US" sz="4000" spc="-1" strike="noStrike">
              <a:solidFill>
                <a:srgbClr val="000000"/>
              </a:solidFill>
              <a:latin typeface="Britannic Bold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notify Congress within 48 hours of deploying militar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withdraw forces unless he gains Congressional approval within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regard for Veteran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seen as “baby killers”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W/MIA issue lingere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600" y="1625760"/>
            <a:ext cx="300168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05120" y="76320"/>
            <a:ext cx="5486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Some American POWs Returned from the 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“Hanoi Hilt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5791320"/>
            <a:ext cx="3809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nator John McCa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R-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76236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4038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2,583 Americ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OWs / MIAs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till unaccounted for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POW/MIA FLag"/>
          <p:cNvPicPr/>
          <p:nvPr/>
        </p:nvPicPr>
        <p:blipFill>
          <a:blip r:embed="rId1"/>
          <a:stretch/>
        </p:blipFill>
        <p:spPr>
          <a:xfrm>
            <a:off x="3222720" y="45720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14040" y="3504960"/>
            <a:ext cx="7010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f we have to fight, w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will fight.  You will kill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ten of our men and we will kill one of yours, and in the end it will be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who tires of it.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93640" y="1981080"/>
            <a:ext cx="18446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1905120" y="380880"/>
            <a:ext cx="5440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n the En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863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 Chi Mi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Lesson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for Future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merican President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be of short duration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yield few American casualtie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Restrict media access to battlefield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Develop and maintain Congressional and public support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clear, winnable go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deadline for troop withdraw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3720" y="152280"/>
            <a:ext cx="5029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The Vietnam Memorial, Washington,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2122560"/>
            <a:ext cx="6553080" cy="44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05120" y="365040"/>
            <a:ext cx="54100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Memorial to US Servicemen in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3880" y="2516040"/>
            <a:ext cx="5943600" cy="373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628800" cy="49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057400" y="1522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Memorial to US Nurses in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06760" y="914400"/>
            <a:ext cx="37940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2971800" y="152280"/>
            <a:ext cx="297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58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6" presetSubtype="37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“</a:t>
            </a: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Pentagon Papers,” </a:t>
            </a:r>
            <a:br>
              <a:rPr sz="3800"/>
            </a:b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1971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er defense analyst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Daniel Ellsber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aked govt. docs. regarding war efforts during Johnson’s administration to the </a:t>
            </a: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New York Tim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cs.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Govt. misled Congress &amp; Amer. People regarding its intentions in Vietnam during mid-1960s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imary reason for fighting not 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iminate communism, but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 avoid humiliating defea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Comic Sans MS"/>
              </a:rPr>
              <a:t>New York Times v. United Stat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1971) </a:t>
            </a:r>
            <a:r>
              <a:rPr b="1" lang="en-US" sz="2600" spc="-1" strike="noStrike">
                <a:solidFill>
                  <a:srgbClr val="6600ff"/>
                </a:solidFill>
                <a:latin typeface="Comic Sans MS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1781280"/>
            <a:ext cx="6629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President Clinton formally recognized Vietnam on 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July 11, 19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ND TODAY…..</a:t>
            </a:r>
            <a:br>
              <a:rPr sz="3600"/>
            </a:b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The “Light” at the </a:t>
            </a:r>
            <a:br>
              <a:rPr sz="3400"/>
            </a:b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End of </a:t>
            </a:r>
            <a:r>
              <a:rPr b="1" i="1" lang="en-US" sz="3400" spc="-1" strike="noStrike" u="sng">
                <a:solidFill>
                  <a:srgbClr val="009900"/>
                </a:solidFill>
                <a:uFillTx/>
                <a:latin typeface="Arial Black"/>
              </a:rPr>
              <a:t>This</a:t>
            </a: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 Tunnel?</a:t>
            </a:r>
            <a:endParaRPr b="0" lang="en-US" sz="3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38480" y="1986120"/>
            <a:ext cx="4771800" cy="35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965160" y="572292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3 to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“Operation Iraqi Freedom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0+ American dead and counting…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2286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nother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Vietn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9051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29718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 transformation of the Middle E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495680"/>
            <a:ext cx="0" cy="7621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522612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Only time &amp; history can t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is at hand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Kissinger, 1972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rth Vietnam attacks S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st Massive U.S. bombing commen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: Ceasefire signed betwee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.S., South Vietnam, &amp; North Vietna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(President Nixon)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289080"/>
            <a:ext cx="548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Peace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876920" cy="38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334120" y="2286000"/>
            <a:ext cx="2895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S &amp;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ietnames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rgue fo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5 month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ver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ize of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erenc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8672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2d00"/>
                </a:solidFill>
                <a:latin typeface="Comic Sans MS"/>
              </a:rPr>
              <a:t>Dr. Henry Kissi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2200" spc="-1" strike="noStrike">
                <a:solidFill>
                  <a:srgbClr val="ec2d00"/>
                </a:solidFill>
                <a:latin typeface="Comic Sans MS"/>
              </a:rPr>
              <a:t>Le Duc T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to remove all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could leave troops already in S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would resum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provision for POWs or 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 American troops left Sou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nam on March 29, 1973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5: North Vietnam defeats South Vietnam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igon renam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City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304920"/>
            <a:ext cx="53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7913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uth Vietnames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empt to Flee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 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304920"/>
            <a:ext cx="4876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15" descr="Vietnam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295280" y="591192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merica Abandons Its Embas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 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657600" y="1981080"/>
            <a:ext cx="5257800" cy="35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5943600" y="220968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c2d00"/>
                </a:solidFill>
                <a:latin typeface="Comic Sans MS"/>
              </a:rPr>
              <a:t>April 30, 19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opper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152280"/>
            <a:ext cx="487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715000"/>
            <a:ext cx="761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orth Vietname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t the Presidential Pa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 "/>
          <p:cNvPicPr/>
          <p:nvPr/>
        </p:nvPicPr>
        <p:blipFill>
          <a:blip r:embed="rId1"/>
          <a:stretch/>
        </p:blipFill>
        <p:spPr>
          <a:xfrm>
            <a:off x="1371600" y="1627200"/>
            <a:ext cx="5943600" cy="40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362240"/>
            <a:ext cx="7772400" cy="5343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4648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d00"/>
                </a:solidFill>
                <a:latin typeface="Comic Sans MS"/>
              </a:rPr>
              <a:t>Formerly Sai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990360" cy="457200"/>
          </a:xfrm>
          <a:prstGeom prst="line">
            <a:avLst/>
          </a:prstGeom>
          <a:ln w="57240">
            <a:solidFill>
              <a:srgbClr val="ec2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65040"/>
            <a:ext cx="525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 United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School District U46</cp:lastModifiedBy>
  <dcterms:modified xsi:type="dcterms:W3CDTF">2008-05-21T17:04:48Z</dcterms:modified>
  <cp:revision>376</cp:revision>
  <dc:subject/>
  <dc:title>The Vietnam War, 1954-1975</dc:title>
</cp:coreProperties>
</file>